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52A-E759-4317-9C47-351CABCF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04D-73C6-4430-A916-9779F5C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0E2-6536-4B3E-A2B2-ED927E57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49C-7733-40E8-BBAA-EE33E2D4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3FE-BF55-4F39-8591-FE4F2C6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BD6-0DB8-4812-826A-11ED1BEC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AD7-C561-4702-8334-CBBED778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0B5-F8CA-4F1F-8083-1ABC02BC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6EC-DD17-4D24-A274-3D5A4479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438-A6A4-4B09-9382-4B86BF4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6B2-1D5C-400C-8796-B280114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158-2CA8-40E0-9D60-92E4382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C25-B83C-4ABF-9045-2A0512C345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Kiosk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Yes you are in Kiosk mod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On click still works thoug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But the keyboard doesn'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Nor does the mouse wh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Click the NEXT button for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ction Button: Forward or Next 5">
            <a:hlinkClick r:id="" action="ppaction://hlinkshowjump?jump=nextslide"/>
          </p:cNvPr>
          <p:cNvSpPr/>
          <p:nvPr/>
        </p:nvSpPr>
        <p:spPr>
          <a:xfrm>
            <a:off x="7429680" y="6286680"/>
            <a:ext cx="1143000" cy="428400"/>
          </a:xfrm>
          <a:custGeom>
            <a:avLst/>
            <a:gdLst>
              <a:gd name="textAreaLeft" fmla="*/ 27720 w 1143000"/>
              <a:gd name="textAreaRight" fmla="*/ 1115280 w 11430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3794"/>
                </a:moveTo>
                <a:lnTo>
                  <a:pt x="35806" y="10800"/>
                </a:lnTo>
                <a:lnTo>
                  <a:pt x="21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Next Slid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3:05:28Z</dcterms:created>
  <dc:creator>John Wilson</dc:creator>
  <dc:description/>
  <dc:language>en-US</dc:language>
  <cp:lastModifiedBy>John Wilson</cp:lastModifiedBy>
  <dcterms:modified xsi:type="dcterms:W3CDTF">2008-03-06T13:10:16Z</dcterms:modified>
  <cp:revision>1</cp:revision>
  <dc:subject/>
  <dc:title>Kiosk Mode</dc:title>
</cp:coreProperties>
</file>